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52200" cy="12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3888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680" y="4680"/>
            <a:ext cx="11763360" cy="12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40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4E25-074C-4B94-83C3-11DB29FC7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748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60A6-8F11-4228-9C61-FD267F456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372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C4A8-3D12-4B32-A08A-D342FF4DA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32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32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580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21B5-D0F9-4450-8EA0-A56F8A6E6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6282-49C6-4456-BC1D-CACEE3681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1E92-9798-427D-A8AC-62A9DFFCD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40D5-67EA-42E9-A96C-37E3A398A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AB3A-12F1-44BA-9938-0417118CA4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3073-45DE-4148-B028-4286581CE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360"/>
            <a:ext cx="8190000" cy="71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412C-96FB-43CB-A88A-5233D0F631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1D26-CA94-4B5B-B312-379914A8AF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18E2-5ABA-4488-818B-4C1F8DD3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372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F4C2-D257-44CE-9E18-063405E74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5903-B932-478E-A427-2969590D1B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5748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E3FE-0787-48B4-B6AD-1047D4E5B5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372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C871-4418-486D-A3BE-C5B761F9A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632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632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800" y="3957480"/>
            <a:ext cx="263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B605-D3BA-464F-873A-F84855546C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7466-B0C9-4A0C-B1BD-751EC4C0F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8807-26E3-4886-9567-24D7CC525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7388-922F-4A66-BECE-4810B61BD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360"/>
            <a:ext cx="8190000" cy="71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C5D4-7736-4829-801B-8E3881FED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43EA-4116-4911-A164-FF47074FA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3720" y="395748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0428-0CAF-42BB-817D-47609E7C4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3720" y="1599840"/>
            <a:ext cx="399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7480"/>
            <a:ext cx="8190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2596-7321-40E7-A6D4-490252BB9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0941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03F8C0-031C-43BA-9BCB-238F58F6C97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1900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6243480"/>
            <a:ext cx="18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124080" y="624348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857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15A9B1-1CFE-4AFA-AB81-253931240BD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004840"/>
            <a:ext cx="82090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gregação de Valor e Consolidação de Mercados Susten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Ag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Social e Combate à F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hia Nacional de Abastecimento - CO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8205840" y="156060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199360" y="2230560"/>
            <a:ext cx="695520" cy="573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8205840" y="350532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8205840" y="4194000"/>
            <a:ext cx="689040" cy="517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>
            <a:off x="8205840" y="481644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6"/>
          <a:stretch/>
        </p:blipFill>
        <p:spPr>
          <a:xfrm>
            <a:off x="8205840" y="5479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7"/>
          <a:stretch/>
        </p:blipFill>
        <p:spPr>
          <a:xfrm>
            <a:off x="8205840" y="2859120"/>
            <a:ext cx="689040" cy="579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8"/>
          <a:stretch/>
        </p:blipFill>
        <p:spPr>
          <a:xfrm>
            <a:off x="5364000" y="1328760"/>
            <a:ext cx="622440" cy="5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9"/>
          <a:stretch/>
        </p:blipFill>
        <p:spPr>
          <a:xfrm>
            <a:off x="5364000" y="1968480"/>
            <a:ext cx="609840" cy="5857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5"/>
          <p:cNvSpPr/>
          <p:nvPr/>
        </p:nvSpPr>
        <p:spPr>
          <a:xfrm>
            <a:off x="6846840" y="2254320"/>
            <a:ext cx="129528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iro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32" descr="Picture3"/>
          <p:cNvPicPr/>
          <p:nvPr/>
        </p:nvPicPr>
        <p:blipFill>
          <a:blip r:embed="rId10"/>
          <a:stretch/>
        </p:blipFill>
        <p:spPr>
          <a:xfrm>
            <a:off x="8248680" y="6175440"/>
            <a:ext cx="587520" cy="58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3"/>
          <p:cNvSpPr/>
          <p:nvPr/>
        </p:nvSpPr>
        <p:spPr>
          <a:xfrm>
            <a:off x="6838920" y="165096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ç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4"/>
          <p:cNvSpPr/>
          <p:nvPr/>
        </p:nvSpPr>
        <p:spPr>
          <a:xfrm>
            <a:off x="6842160" y="2897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ac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35"/>
          <p:cNvSpPr/>
          <p:nvPr/>
        </p:nvSpPr>
        <p:spPr>
          <a:xfrm>
            <a:off x="6842160" y="3557520"/>
            <a:ext cx="129528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36"/>
          <p:cNvSpPr/>
          <p:nvPr/>
        </p:nvSpPr>
        <p:spPr>
          <a:xfrm>
            <a:off x="6842160" y="42116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aú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37"/>
          <p:cNvSpPr/>
          <p:nvPr/>
        </p:nvSpPr>
        <p:spPr>
          <a:xfrm>
            <a:off x="6838920" y="4886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a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8"/>
          <p:cNvSpPr/>
          <p:nvPr/>
        </p:nvSpPr>
        <p:spPr>
          <a:xfrm>
            <a:off x="6837480" y="557532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9"/>
          <p:cNvSpPr/>
          <p:nvPr/>
        </p:nvSpPr>
        <p:spPr>
          <a:xfrm>
            <a:off x="6846840" y="61880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4003560" y="2016000"/>
            <a:ext cx="129564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ta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3995640" y="1365120"/>
            <a:ext cx="129564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baç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42"/>
          <p:cNvSpPr/>
          <p:nvPr/>
        </p:nvSpPr>
        <p:spPr>
          <a:xfrm>
            <a:off x="1808280" y="1700280"/>
            <a:ext cx="158436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 cará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43"/>
          <p:cNvSpPr/>
          <p:nvPr/>
        </p:nvSpPr>
        <p:spPr>
          <a:xfrm>
            <a:off x="1827360" y="4621320"/>
            <a:ext cx="158400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errito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44"/>
          <p:cNvSpPr/>
          <p:nvPr/>
        </p:nvSpPr>
        <p:spPr>
          <a:xfrm>
            <a:off x="193680" y="2852640"/>
            <a:ext cx="1297080" cy="151308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e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48"/>
          <p:cNvSpPr/>
          <p:nvPr/>
        </p:nvSpPr>
        <p:spPr>
          <a:xfrm flipV="1">
            <a:off x="1490760" y="2133360"/>
            <a:ext cx="344520" cy="1439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49"/>
          <p:cNvSpPr/>
          <p:nvPr/>
        </p:nvSpPr>
        <p:spPr>
          <a:xfrm>
            <a:off x="1490760" y="3646440"/>
            <a:ext cx="360360" cy="1150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50"/>
          <p:cNvSpPr/>
          <p:nvPr/>
        </p:nvSpPr>
        <p:spPr>
          <a:xfrm flipH="1">
            <a:off x="3400560" y="1844640"/>
            <a:ext cx="3457440" cy="3240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61"/>
          <p:cNvSpPr/>
          <p:nvPr/>
        </p:nvSpPr>
        <p:spPr>
          <a:xfrm flipH="1">
            <a:off x="3473280" y="2527200"/>
            <a:ext cx="3384720" cy="2519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2"/>
          <p:cNvSpPr/>
          <p:nvPr/>
        </p:nvSpPr>
        <p:spPr>
          <a:xfrm flipH="1">
            <a:off x="3438360" y="3213000"/>
            <a:ext cx="3384720" cy="18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3"/>
          <p:cNvSpPr/>
          <p:nvPr/>
        </p:nvSpPr>
        <p:spPr>
          <a:xfrm flipH="1">
            <a:off x="3419280" y="3789360"/>
            <a:ext cx="3384360" cy="1295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64"/>
          <p:cNvSpPr/>
          <p:nvPr/>
        </p:nvSpPr>
        <p:spPr>
          <a:xfrm flipH="1" flipV="1">
            <a:off x="3419640" y="5084640"/>
            <a:ext cx="3457440" cy="1368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65"/>
          <p:cNvSpPr/>
          <p:nvPr/>
        </p:nvSpPr>
        <p:spPr>
          <a:xfrm flipH="1" flipV="1">
            <a:off x="3438360" y="5084640"/>
            <a:ext cx="3384720" cy="7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 flipH="1" flipV="1">
            <a:off x="3419280" y="5084280"/>
            <a:ext cx="3384360" cy="7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67"/>
          <p:cNvSpPr/>
          <p:nvPr/>
        </p:nvSpPr>
        <p:spPr>
          <a:xfrm flipH="1">
            <a:off x="3419280" y="4437000"/>
            <a:ext cx="3384360" cy="647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71"/>
          <p:cNvSpPr/>
          <p:nvPr/>
        </p:nvSpPr>
        <p:spPr>
          <a:xfrm>
            <a:off x="3348000" y="2060640"/>
            <a:ext cx="64764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73"/>
          <p:cNvSpPr/>
          <p:nvPr/>
        </p:nvSpPr>
        <p:spPr>
          <a:xfrm flipV="1">
            <a:off x="3419640" y="1557360"/>
            <a:ext cx="576000" cy="503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79280" y="1619280"/>
            <a:ext cx="882036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DEIAS INICIA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Babaçu  e  Castanha do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Relevância socioeconomica e ambi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untas beneficiam 500 mil famílias entre quebradeiras de coco e extrativistas e geram aproximadamente R$ 160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ilhões/an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60360" y="1440000"/>
            <a:ext cx="845964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3120" indent="-3031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S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operacionais/delib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upo de Coordenação do Plano Nacion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DA, MDS, MMA e CON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consul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 Nacional da Sociobiodivers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Ts castanha do Brasil e Babaçu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s estaduais, GTs, APLs, ou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539640" y="6300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029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Critérios seleção municíp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21520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lta produção – castanha ou babaç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nidade de Conservação (U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erritório da Cidadania (TC)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eração Arco Verd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50104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deia do babaç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85480" y="22856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2920" y="1785960"/>
          <a:ext cx="8858160" cy="4795920"/>
        </p:xfrm>
        <a:graphic>
          <a:graphicData uri="http://schemas.openxmlformats.org/drawingml/2006/table">
            <a:tbl>
              <a:tblPr/>
              <a:tblGrid>
                <a:gridCol w="1214280"/>
                <a:gridCol w="1714680"/>
                <a:gridCol w="2143080"/>
                <a:gridCol w="3786120"/>
              </a:tblGrid>
              <a:tr h="15508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Estados PNPS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Municípi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prioriz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Município dentro de algum Território da Cidada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Território Cidada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414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ais, Baixada Ocidental, Vale do Itapecuru, Baixo do Parnaíba, Alto Turui e Gurupi, Campo e Lagos, Lençóis Maranhenses/ Munim e Médio Meari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1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co do Papaga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07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ais, Entre Rios e Carnauba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07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1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1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1213920"/>
            <a:ext cx="8501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adeia da castanha do Bra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85480" y="22856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2920" y="1714680"/>
          <a:ext cx="8858160" cy="5144760"/>
        </p:xfrm>
        <a:graphic>
          <a:graphicData uri="http://schemas.openxmlformats.org/drawingml/2006/table">
            <a:tbl>
              <a:tblPr/>
              <a:tblGrid>
                <a:gridCol w="1214280"/>
                <a:gridCol w="1714680"/>
                <a:gridCol w="1857240"/>
                <a:gridCol w="4071960"/>
              </a:tblGrid>
              <a:tr h="14461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Estados PNPS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Municípi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prioriz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Município dentro de algum Território da Cidad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Verdana"/>
                          <a:ea typeface="SimSun"/>
                        </a:rPr>
                        <a:t>Território Cidad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60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 do Jamari e  Madeira e Mamor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Alto Acre, Capixa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Alto Solimões, Madeira, Baixo Amazo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ransamazonica, Baixo Amazonas, Baixo Tocantins, Sudeste Paraen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Dos Lagos, Sul do Amap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ortal da Amazônia, Noroeste, Baixo Aragua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6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1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1796840" y="7361280"/>
            <a:ext cx="845964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A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laudia M. Cal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retora de Extrativ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retaria de Extrativismo e Desenvolvimento Rural Sustentáv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Verdana"/>
              </a:rPr>
              <a:t>claudia-maria.calorio@mma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Roman"/>
              </a:rPr>
              <a:t>Cona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60360" y="6119640"/>
            <a:ext cx="8388360" cy="540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95280" y="1379520"/>
            <a:ext cx="817884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O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RTAL DO PLANO NACIONAL DA SOCIOBIODIVERS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(61) 2020-0984 – Secretaria  Execu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tângulo 4"/>
          <p:cNvSpPr/>
          <p:nvPr/>
        </p:nvSpPr>
        <p:spPr>
          <a:xfrm>
            <a:off x="0" y="3857760"/>
            <a:ext cx="914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ttp://comunidades.mda.gov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>
            <a:off x="539640" y="1655640"/>
            <a:ext cx="2160720" cy="216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01" h="2501">
                <a:moveTo>
                  <a:pt x="1250" y="2500"/>
                </a:moveTo>
                <a:cubicBezTo>
                  <a:pt x="560" y="2500"/>
                  <a:pt x="0" y="1940"/>
                  <a:pt x="0" y="1250"/>
                </a:cubicBezTo>
                <a:cubicBezTo>
                  <a:pt x="0" y="560"/>
                  <a:pt x="560" y="0"/>
                  <a:pt x="1250" y="0"/>
                </a:cubicBezTo>
                <a:cubicBezTo>
                  <a:pt x="1940" y="0"/>
                  <a:pt x="2500" y="560"/>
                  <a:pt x="2500" y="1250"/>
                </a:cubicBezTo>
                <a:cubicBezTo>
                  <a:pt x="2500" y="1940"/>
                  <a:pt x="1940" y="2500"/>
                  <a:pt x="1250" y="25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6300720" y="1617840"/>
            <a:ext cx="2160720" cy="21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1440000" y="4680000"/>
            <a:ext cx="2160360" cy="206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219640" y="4680000"/>
            <a:ext cx="2160720" cy="19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397320" y="1655640"/>
            <a:ext cx="218268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egabiodiversidade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900000" y="1449360"/>
            <a:ext cx="7373520" cy="2179440"/>
            <a:chOff x="900000" y="1449360"/>
            <a:chExt cx="7373520" cy="2179440"/>
          </a:xfrm>
        </p:grpSpPr>
        <p:pic>
          <p:nvPicPr>
            <p:cNvPr id="124" name="Picture 2" descr=""/>
            <p:cNvPicPr/>
            <p:nvPr/>
          </p:nvPicPr>
          <p:blipFill>
            <a:blip r:embed="rId1"/>
            <a:stretch/>
          </p:blipFill>
          <p:spPr>
            <a:xfrm>
              <a:off x="2656800" y="1449360"/>
              <a:ext cx="3718440" cy="21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2"/>
            <a:stretch/>
          </p:blipFill>
          <p:spPr>
            <a:xfrm>
              <a:off x="6445440" y="2523240"/>
              <a:ext cx="182484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"/>
            <p:cNvPicPr/>
            <p:nvPr/>
          </p:nvPicPr>
          <p:blipFill>
            <a:blip r:embed="rId3"/>
            <a:stretch/>
          </p:blipFill>
          <p:spPr>
            <a:xfrm>
              <a:off x="6445440" y="1449360"/>
              <a:ext cx="182808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"/>
            <p:cNvPicPr/>
            <p:nvPr/>
          </p:nvPicPr>
          <p:blipFill>
            <a:blip r:embed="rId4"/>
            <a:stretch/>
          </p:blipFill>
          <p:spPr>
            <a:xfrm>
              <a:off x="900000" y="1449360"/>
              <a:ext cx="169164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"/>
            <p:cNvPicPr/>
            <p:nvPr/>
          </p:nvPicPr>
          <p:blipFill>
            <a:blip r:embed="rId5"/>
            <a:stretch/>
          </p:blipFill>
          <p:spPr>
            <a:xfrm>
              <a:off x="900000" y="2638800"/>
              <a:ext cx="1718640" cy="9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7"/>
          <p:cNvGrpSpPr/>
          <p:nvPr/>
        </p:nvGrpSpPr>
        <p:grpSpPr>
          <a:xfrm>
            <a:off x="900000" y="4680000"/>
            <a:ext cx="7372080" cy="1876320"/>
            <a:chOff x="900000" y="4680000"/>
            <a:chExt cx="7372080" cy="1876320"/>
          </a:xfrm>
        </p:grpSpPr>
        <p:pic>
          <p:nvPicPr>
            <p:cNvPr id="130" name="Picture 8" descr=""/>
            <p:cNvPicPr/>
            <p:nvPr/>
          </p:nvPicPr>
          <p:blipFill>
            <a:blip r:embed="rId6"/>
            <a:stretch/>
          </p:blipFill>
          <p:spPr>
            <a:xfrm>
              <a:off x="5702760" y="4706640"/>
              <a:ext cx="2569320" cy="18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9" descr=""/>
            <p:cNvPicPr/>
            <p:nvPr/>
          </p:nvPicPr>
          <p:blipFill>
            <a:blip r:embed="rId7"/>
            <a:stretch/>
          </p:blipFill>
          <p:spPr>
            <a:xfrm>
              <a:off x="900000" y="4680000"/>
              <a:ext cx="29109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"/>
            <p:cNvPicPr/>
            <p:nvPr/>
          </p:nvPicPr>
          <p:blipFill>
            <a:blip r:embed="rId8"/>
            <a:stretch/>
          </p:blipFill>
          <p:spPr>
            <a:xfrm>
              <a:off x="3980880" y="4706640"/>
              <a:ext cx="1472760" cy="179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1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iversidade Sociocultural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24000" y="1413000"/>
            <a:ext cx="8496000" cy="66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ABOR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lização de 7 Seminários Regionais/Bioma e  1 Nacion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ulta ao setor empresarial e consultor S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s de 700 pessoas envolvid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13000"/>
            <a:ext cx="84960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74640" indent="-673200">
              <a:lnSpc>
                <a:spcPct val="101000"/>
              </a:lnSpc>
              <a:tabLst>
                <a:tab algn="l" pos="0"/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ABOR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1000"/>
              </a:lnSpc>
              <a:tabLst>
                <a:tab algn="l" pos="0"/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s de 10 - Bilaterais Governo Fede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- Oficina de Gest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tabLst>
                <a:tab algn="l" pos="0"/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çamento do Plano Nacional - Manaus 27 abril/2009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4640" indent="-6732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1123920"/>
                <a:tab algn="l" pos="1573200"/>
                <a:tab algn="l" pos="2022480"/>
                <a:tab algn="l" pos="2471760"/>
                <a:tab algn="l" pos="2921040"/>
                <a:tab algn="l" pos="3370320"/>
                <a:tab algn="l" pos="3819600"/>
                <a:tab algn="l" pos="4268880"/>
                <a:tab algn="l" pos="4718160"/>
                <a:tab algn="l" pos="5167440"/>
                <a:tab algn="l" pos="5616720"/>
                <a:tab algn="l" pos="6066000"/>
                <a:tab algn="l" pos="6515280"/>
                <a:tab algn="l" pos="6964200"/>
                <a:tab algn="l" pos="7413480"/>
                <a:tab algn="l" pos="7862760"/>
                <a:tab algn="l" pos="8312040"/>
                <a:tab algn="l" pos="8761320"/>
                <a:tab algn="l" pos="9210600"/>
                <a:tab algn="l" pos="9659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Portaria Interministerial Nº 239 de 21 de julho de 2009 – Constituição Grupo de Coorde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68360" y="1857240"/>
            <a:ext cx="82040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ens e serviço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produtos finais, matérias primas ou benefícios) gerados à partir de recursos d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iodiversida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voltados à formação d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adeias produtiva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teresse do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CTAF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povos e comunidades tradicionais e de agricultores familiares), que promovam 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nutenção e valorizaçã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sua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átic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aber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e assegurem o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reitos decorrent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gerando renda e promovendo 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lhori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su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qualidade de vid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 d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mbien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 que viv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95280" y="1052640"/>
            <a:ext cx="76057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dutos Sociobiodiversid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457200" y="1268280"/>
            <a:ext cx="368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bjetivo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2349360"/>
            <a:ext cx="82040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envolver ações integradas para a promoção e fortalecimento das cadeias de produtos da sociobiodivers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3660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8020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67960"/>
                <a:tab algn="l" pos="10769760"/>
                <a:tab algn="l" pos="10771200"/>
                <a:tab algn="l" pos="107726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360360" y="1979640"/>
            <a:ext cx="86392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68580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1635120"/>
            <a:ext cx="82090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3120" indent="-3031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IXOS DO P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dução e Extrativismo Sustentá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cessos Industria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ercado Institucional e Diferenci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Organização Social e Produt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3120" indent="-3031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erviços da Sociobiodivers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1484280"/>
            <a:ext cx="3970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inhas de 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2421000"/>
            <a:ext cx="843588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squisa, Desenvolvimento Tecnológico e Ino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stência Técnica e Extensão R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paci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édito, Fomento e Incentivos Fis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vulgação e 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co Regulat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z Rebelatto</dc:creator>
  <dc:description/>
  <dc:language>en-US</dc:language>
  <cp:lastModifiedBy>SECTOR INFORMATICA LTDA</cp:lastModifiedBy>
  <dcterms:modified xsi:type="dcterms:W3CDTF">2010-03-25T14:14:27Z</dcterms:modified>
  <cp:revision>57</cp:revision>
  <dc:subject/>
  <dc:title>Plano Nacional para Promoção das Cadeias de Produtos da Sociobiodiversidade: Agregação de Valor e Consolidação de Mercados Sustent´v</dc:title>
</cp:coreProperties>
</file>